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B4A-12CD-46D2-B967-8D4C5452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613-DA90-4812-94E3-F10C9652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336-5E84-4E20-B59C-CD6B7DF1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6E0-6422-4B3A-A56A-0406BB15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706-73D3-47C8-B8DD-BEDB8FF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DEA-98C3-4BD2-BEB2-04D737BB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ECD-913F-46E6-87FE-9A62B4D5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EB4-8289-4DBB-A97E-BD9A9DA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F68-B6DF-43CF-A7E3-CEF3B02A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477-5FDB-45FD-BBB0-6878FF2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610-F61F-45A9-A2F8-8BBC5B0C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893-C774-4301-A996-7BAF305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BF5A-2841-4DED-9041-BFF5483E9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1480" y="3038400"/>
            <a:ext cx="84582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Who Has Better Eyesigh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By:Zane Nich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Problem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eorgia"/>
              </a:rPr>
              <a:t>I was wondering if boys or girls have better eyesight, you don't see very many girls with glasses, do you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ypothe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 predict that girls have better eyesight because I don't see very many girls with glasses. It makes more sense that girls would have better eyesight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606600"/>
            <a:ext cx="9669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Material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yesight test pa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Volunteers from both gender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ncil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y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Proced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.    Gather Materials and Volunteer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2.    Test Volunteer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3.    Record Data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4.    Make results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5.   Report conclu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Result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y hypothesis was correct. Girls have slightly better eyesight than boys.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onclusion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828800"/>
            <a:ext cx="9258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. Girls have just barely have better eyesight than boys but I think that they are very close to the same. When I was figuring out the results, I thought for a moment that they would be the same. Yes, girls have better eye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D376</cp:lastModifiedBy>
  <dcterms:modified xsi:type="dcterms:W3CDTF">2011-03-28T13:45:30Z</dcterms:modified>
  <cp:revision>1</cp:revision>
  <dc:subject/>
  <dc:title>PowerPoint Presentation</dc:title>
</cp:coreProperties>
</file>